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4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7.png" ContentType="image/png"/>
  <Override PartName="/ppt/media/image48.wmf" ContentType="image/x-wmf"/>
  <Override PartName="/ppt/media/image50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49.wmf" ContentType="image/x-wmf"/>
  <Override PartName="/ppt/media/image12.wmf" ContentType="image/x-wmf"/>
  <Override PartName="/ppt/media/image7.wmf" ContentType="image/x-wmf"/>
  <Override PartName="/ppt/media/image51.wmf" ContentType="image/x-wmf"/>
  <Override PartName="/ppt/media/image11.png" ContentType="image/png"/>
  <Override PartName="/ppt/media/image47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8.wmf" ContentType="image/x-wmf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6CC5-ECA3-4080-BC3D-01152A1592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6AA2-153E-4BBA-A563-9FF30641C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EDD9-427F-49CF-86B8-10B81C286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351-D36F-4219-83AB-25572BC2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AB9-D3EA-4CDA-A0A5-4673EA26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82F-FED9-4B62-A1A9-1E934BE2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016-F0AD-4AED-899C-76A3E4B2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D291-F31F-4CD6-893A-60BD6F71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71E0-88EC-4119-BDB9-3B5CECAC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F0C3-0681-447D-8EBE-695BCA9B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DDAF-71EE-47CE-B819-AD76F2E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D9C7-528C-4A87-B521-28AF0670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BC7C-021C-4C9B-95B5-BBF0B7EE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936A-A72F-4103-844C-9D19C9E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70E-AF0B-41D7-B7EF-88CDA3B3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2362-84B2-4693-8CB5-86CC2FB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E26B-DDEA-47A0-9C61-0F045E9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FC85-548A-407C-B833-B893B35A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306D-55F4-4BA6-83BB-A550D392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EC0B-5C69-4022-954B-2C4ACD8B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36F9-3FB5-477D-8080-FB715A29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1064-2F1C-4971-BE4D-48FCF9CF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FBA3-6819-45C5-B955-497592A4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1831-6516-42F0-9EF3-722667F4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F92B-88A3-43F7-8CF1-7C3A322B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748-3BF4-4B8C-AFE2-DB89E177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5260-E101-4422-AF71-F409CE28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5C20-CEA7-4F16-96A1-DFD22F3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A608-F56B-4658-827E-E656ADA7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F367-F491-4A8E-B44D-0799F44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F943-4C0C-4255-B907-E542D1F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2F03-8D89-4A41-83C0-E581951E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93F4-9B2E-4AF6-BFC0-FA3367F4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A6D3-B63E-419C-BB75-D74B6F59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7397-39E2-429F-BB1B-87183158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E84F-37D2-4C60-AD98-678559C2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E9E-7D99-423B-BD70-04C72A22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C77C-692B-4591-B7FC-891913C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A003-386A-4F3D-BC1F-B3A7230C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52E0-4016-4F37-B48C-0C5D9F1E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3FE2-FBA7-48A4-8F52-7052919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65CB-C711-4035-BF9E-45F52D5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D1182-4961-4DF2-A410-7C1015A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983D-840D-48F3-8C75-B8ECD4F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3B9B-AA8C-41D3-9946-ABC683F3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906A-79C4-42B2-9277-BD74C23B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B2C2-62FC-4B60-9753-D6AD9595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9FE-D358-401D-A22F-B550C83B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861F-51CB-41C1-9B22-98A4077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0623-D8D7-4D86-A8A3-E93518C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2EE43-236C-4CD4-AAB1-1ADF5AC6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0235-2D72-4091-9D73-D055AE65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DCCF-F07D-433A-9F3B-91C2F8C9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ED9D-EA23-4A74-AEF7-4076A79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EE5F-6920-4D5D-A552-3D1F3106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33292-965D-4C2E-838F-771FFE1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93D5-161D-4CC4-8DCD-53015565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A22C-3D0F-4A4E-BFCB-859E0DD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E10-33C2-48E8-B0E9-8676F539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03CCC-65FD-4193-904B-C6489C6B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6BA-97CB-4E2C-AE01-64F57A22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932-A170-4F6D-B600-3A601991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053-236C-4B65-9980-B1427F9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D9D2-7587-4A6A-8D88-A8B9CC26C2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F25-56FB-4BAA-80F2-BFC9464428B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F352-0C4C-4503-B335-1C99F29383D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D9A3-7F95-45F0-9766-A7478B8FDFE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C405-7BE7-478D-8EBF-F6222966007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792520" y="353880"/>
            <a:ext cx="71737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2000" y="132552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838600" y="2139840"/>
                <a:ext cx="13744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1260360" y="326232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6661080" y="448776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4068720" y="49197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-42840" y="-103320"/>
            <a:ext cx="876600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79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сякая неправильная рациональная дробь представима в виде суммы многочлена (ее целой части) и правильной рациональной дроб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Замечание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Такого представления можно достич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пример, с помощью деления многочленов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             «в столбик»,  прекращая процедур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еления как только степень многочлен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формировавшегося в остатк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анет меньш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епени многочлена 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Всякую правильную рациональную дроб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можно представить в виде суммы конечного чис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остейших  рациональных дроб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1" name="Объект 4"/>
          <p:cNvGraphicFramePr/>
          <p:nvPr/>
        </p:nvGraphicFramePr>
        <p:xfrm>
          <a:off x="7381800" y="191628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1800" y="191628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1189080" y="242100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Объект 6"/>
              <p:cNvSpPr txBox="1"/>
              <p:nvPr/>
            </p:nvSpPr>
            <p:spPr>
              <a:xfrm>
                <a:off x="3808440" y="378936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646200" y="255600"/>
            <a:ext cx="7748640" cy="731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065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252360" y="126828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ля разложения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 т.е представить 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ногочле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16000" y="450864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1217520" y="5589720"/>
                <a:ext cx="1266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324000" y="527040"/>
            <a:ext cx="820872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рактике осуществить разложение правильной рациональной дроби    на сумму простейших рациональных дробей можно по следующей 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корни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дставить его в виде разложения на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Объект 2"/>
              <p:cNvSpPr txBox="1"/>
              <p:nvPr/>
            </p:nvSpPr>
            <p:spPr>
              <a:xfrm>
                <a:off x="1620720" y="4292640"/>
                <a:ext cx="5040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Объект 4"/>
              <p:cNvSpPr txBox="1"/>
              <p:nvPr/>
            </p:nvSpPr>
            <p:spPr>
              <a:xfrm>
                <a:off x="684360" y="5877000"/>
                <a:ext cx="7753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4544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исать разложение с неопределенными коэффициента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5"/>
              <p:cNvSpPr txBox="1"/>
              <p:nvPr/>
            </p:nvSpPr>
            <p:spPr>
              <a:xfrm>
                <a:off x="1332000" y="1341360"/>
                <a:ext cx="6813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7"/>
              <p:cNvSpPr txBox="1"/>
              <p:nvPr/>
            </p:nvSpPr>
            <p:spPr>
              <a:xfrm>
                <a:off x="1332000" y="2133720"/>
                <a:ext cx="4365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9"/>
              <p:cNvSpPr txBox="1"/>
              <p:nvPr/>
            </p:nvSpPr>
            <p:spPr>
              <a:xfrm>
                <a:off x="5653080" y="2133720"/>
                <a:ext cx="2228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Объект 11"/>
              <p:cNvSpPr txBox="1"/>
              <p:nvPr/>
            </p:nvSpPr>
            <p:spPr>
              <a:xfrm>
                <a:off x="1332000" y="2924280"/>
                <a:ext cx="1809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6" name="Прямоугольник 12"/>
          <p:cNvSpPr/>
          <p:nvPr/>
        </p:nvSpPr>
        <p:spPr>
          <a:xfrm>
            <a:off x="991440" y="36450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Определить коэффици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Объект 14"/>
              <p:cNvSpPr txBox="1"/>
              <p:nvPr/>
            </p:nvSpPr>
            <p:spPr>
              <a:xfrm>
                <a:off x="1405080" y="4149720"/>
                <a:ext cx="2919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16"/>
              <p:cNvSpPr txBox="1"/>
              <p:nvPr/>
            </p:nvSpPr>
            <p:spPr>
              <a:xfrm>
                <a:off x="4284720" y="4149720"/>
                <a:ext cx="1217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Объект 18"/>
              <p:cNvSpPr txBox="1"/>
              <p:nvPr/>
            </p:nvSpPr>
            <p:spPr>
              <a:xfrm>
                <a:off x="6805440" y="4753080"/>
                <a:ext cx="287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Rectangle 15"/>
          <p:cNvSpPr/>
          <p:nvPr/>
        </p:nvSpPr>
        <p:spPr>
          <a:xfrm>
            <a:off x="4934160" y="4773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1376280" y="466056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уммарное число  которых равно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Объект 21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8"/>
          <p:cNvSpPr/>
          <p:nvPr/>
        </p:nvSpPr>
        <p:spPr>
          <a:xfrm>
            <a:off x="5086440" y="6296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8408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7975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lnSpc>
                <a:spcPct val="100000"/>
              </a:lnSpc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 р и м е р.  Определить, какие из указанных рациональных дробей являются правильными: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5"/>
              <p:cNvSpPr txBox="1"/>
              <p:nvPr/>
            </p:nvSpPr>
            <p:spPr>
              <a:xfrm>
                <a:off x="1620720" y="2205000"/>
                <a:ext cx="22478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7"/>
              <p:cNvSpPr txBox="1"/>
              <p:nvPr/>
            </p:nvSpPr>
            <p:spPr>
              <a:xfrm>
                <a:off x="1620720" y="3141720"/>
                <a:ext cx="222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Объект 9"/>
              <p:cNvSpPr txBox="1"/>
              <p:nvPr/>
            </p:nvSpPr>
            <p:spPr>
              <a:xfrm>
                <a:off x="2052720" y="4076640"/>
                <a:ext cx="1693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84200" y="333000"/>
            <a:ext cx="797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135640" cy="2595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8135640" cy="2089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Объект 2"/>
              <p:cNvSpPr txBox="1"/>
              <p:nvPr/>
            </p:nvSpPr>
            <p:spPr>
              <a:xfrm>
                <a:off x="2548080" y="5084640"/>
                <a:ext cx="3687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ить  дроб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сумму простейших рациональных дробей  и  найти  коэффициенты разложения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едставим ее в виде суммы простейших дробей, учитыв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0" name="Рисунок 10" descr=""/>
          <p:cNvPicPr/>
          <p:nvPr/>
        </p:nvPicPr>
        <p:blipFill>
          <a:blip r:embed="rId1"/>
          <a:stretch/>
        </p:blipFill>
        <p:spPr>
          <a:xfrm>
            <a:off x="2197080" y="4869000"/>
            <a:ext cx="4175280" cy="75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Объект 1"/>
          <p:cNvGraphicFramePr/>
          <p:nvPr/>
        </p:nvGraphicFramePr>
        <p:xfrm>
          <a:off x="2343240" y="836640"/>
          <a:ext cx="322560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3240" y="836640"/>
                    <a:ext cx="3225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1" descr=""/>
          <p:cNvPicPr/>
          <p:nvPr/>
        </p:nvPicPr>
        <p:blipFill>
          <a:blip r:embed="rId1"/>
          <a:stretch/>
        </p:blipFill>
        <p:spPr>
          <a:xfrm>
            <a:off x="325440" y="333360"/>
            <a:ext cx="7128000" cy="113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Объект 6"/>
              <p:cNvSpPr txBox="1"/>
              <p:nvPr/>
            </p:nvSpPr>
            <p:spPr>
              <a:xfrm>
                <a:off x="252360" y="170028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5459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равняем числители дробе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Объект 9"/>
              <p:cNvSpPr txBox="1"/>
              <p:nvPr/>
            </p:nvSpPr>
            <p:spPr>
              <a:xfrm>
                <a:off x="252360" y="4365720"/>
                <a:ext cx="77263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7080" y="1609200"/>
            <a:ext cx="8358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ногочленом от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целой рациональной функцией о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ывается функция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 действительные числа,     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зависимая комплексная переменн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начения       при которых многочле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вен нулю, называются корнями многочлена.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Rectangle 8" descr=""/>
          <p:cNvPicPr/>
          <p:nvPr/>
        </p:nvPicPr>
        <p:blipFill>
          <a:blip r:embed="rId1"/>
          <a:stretch/>
        </p:blipFill>
        <p:spPr>
          <a:xfrm>
            <a:off x="4809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5932440" y="1643040"/>
          <a:ext cx="36504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2440" y="1643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3"/>
          <p:cNvGraphicFramePr/>
          <p:nvPr/>
        </p:nvGraphicFramePr>
        <p:xfrm>
          <a:off x="360360" y="214308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" y="2143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5"/>
          <p:cNvGraphicFramePr/>
          <p:nvPr/>
        </p:nvGraphicFramePr>
        <p:xfrm>
          <a:off x="7147080" y="2214720"/>
          <a:ext cx="365040" cy="42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7080" y="2214720"/>
                    <a:ext cx="3650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2003400" y="3071880"/>
          <a:ext cx="494352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3400" y="3071880"/>
                    <a:ext cx="49435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9"/>
          <p:cNvGraphicFramePr/>
          <p:nvPr/>
        </p:nvGraphicFramePr>
        <p:xfrm>
          <a:off x="1217520" y="3571920"/>
          <a:ext cx="289584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7520" y="3571920"/>
                    <a:ext cx="2895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"/>
          <p:cNvGraphicFramePr/>
          <p:nvPr/>
        </p:nvGraphicFramePr>
        <p:xfrm>
          <a:off x="217440" y="3929040"/>
          <a:ext cx="365040" cy="42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440" y="3929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2"/>
          <p:cNvGraphicFramePr/>
          <p:nvPr/>
        </p:nvGraphicFramePr>
        <p:xfrm>
          <a:off x="4289400" y="4429080"/>
          <a:ext cx="365040" cy="42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89400" y="4429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7"/>
              <p:cNvSpPr txBox="1"/>
              <p:nvPr/>
            </p:nvSpPr>
            <p:spPr>
              <a:xfrm>
                <a:off x="684360" y="33336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8"/>
              <p:cNvSpPr txBox="1"/>
              <p:nvPr/>
            </p:nvSpPr>
            <p:spPr>
              <a:xfrm>
                <a:off x="5005440" y="333360"/>
                <a:ext cx="3195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539640" y="162864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0" name="Object 11"/>
          <p:cNvGraphicFramePr/>
          <p:nvPr/>
        </p:nvGraphicFramePr>
        <p:xfrm>
          <a:off x="5869080" y="1916280"/>
          <a:ext cx="147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1916280"/>
                    <a:ext cx="147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863720" y="3068640"/>
                <a:ext cx="5835600" cy="34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108000" y="404640"/>
            <a:ext cx="8569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 .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ложить  дробь  на сумму простейших рациональных дробей  и  найти  коэффициенты раз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равильная. Ее знаменатель имеет вид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 у квадратного трехчлена                         дискриминант меньше нуля,  и он не разлагается на линейные множители с действительными  коэффициен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Объект 4"/>
              <p:cNvSpPr txBox="1"/>
              <p:nvPr/>
            </p:nvSpPr>
            <p:spPr>
              <a:xfrm>
                <a:off x="2413080" y="1484280"/>
                <a:ext cx="3671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6"/>
              <p:cNvSpPr txBox="1"/>
              <p:nvPr/>
            </p:nvSpPr>
            <p:spPr>
              <a:xfrm>
                <a:off x="1368360" y="3500280"/>
                <a:ext cx="5940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Объект 8"/>
              <p:cNvSpPr txBox="1"/>
              <p:nvPr/>
            </p:nvSpPr>
            <p:spPr>
              <a:xfrm>
                <a:off x="5076720" y="4221000"/>
                <a:ext cx="2232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4"/>
              <p:cNvSpPr txBox="1"/>
              <p:nvPr/>
            </p:nvSpPr>
            <p:spPr>
              <a:xfrm>
                <a:off x="36360" y="260280"/>
                <a:ext cx="8647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6"/>
              <p:cNvSpPr txBox="1"/>
              <p:nvPr/>
            </p:nvSpPr>
            <p:spPr>
              <a:xfrm>
                <a:off x="1332000" y="1457280"/>
                <a:ext cx="2685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Box 7"/>
          <p:cNvSpPr/>
          <p:nvPr/>
        </p:nvSpPr>
        <p:spPr>
          <a:xfrm>
            <a:off x="328680" y="1484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Объект 9"/>
              <p:cNvSpPr txBox="1"/>
              <p:nvPr/>
            </p:nvSpPr>
            <p:spPr>
              <a:xfrm>
                <a:off x="1604880" y="2852640"/>
                <a:ext cx="6512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Прямоугольник 10"/>
          <p:cNvSpPr/>
          <p:nvPr/>
        </p:nvSpPr>
        <p:spPr>
          <a:xfrm>
            <a:off x="252360" y="198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коэффициентов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приведем   к общему знаменателю и приравняем числ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Объект 12"/>
              <p:cNvSpPr txBox="1"/>
              <p:nvPr/>
            </p:nvSpPr>
            <p:spPr>
              <a:xfrm>
                <a:off x="1668600" y="5445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Прямоугольник 14"/>
          <p:cNvSpPr/>
          <p:nvPr/>
        </p:nvSpPr>
        <p:spPr>
          <a:xfrm>
            <a:off x="36360" y="4292640"/>
            <a:ext cx="48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правило: многочлены равны, если равны коэффициенты при одинаковых степенях       .   Это приводит к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6"/>
              <p:cNvSpPr txBox="1"/>
              <p:nvPr/>
            </p:nvSpPr>
            <p:spPr>
              <a:xfrm>
                <a:off x="4861080" y="4149720"/>
                <a:ext cx="3516120" cy="24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Объект 17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ив найденные числ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В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D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разложение, приходим к равенств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6"/>
              <p:cNvSpPr txBox="1"/>
              <p:nvPr/>
            </p:nvSpPr>
            <p:spPr>
              <a:xfrm>
                <a:off x="868320" y="549360"/>
                <a:ext cx="18320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Объект 8"/>
              <p:cNvSpPr txBox="1"/>
              <p:nvPr/>
            </p:nvSpPr>
            <p:spPr>
              <a:xfrm>
                <a:off x="2989440" y="1341360"/>
                <a:ext cx="465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Объект 10"/>
              <p:cNvSpPr txBox="1"/>
              <p:nvPr/>
            </p:nvSpPr>
            <p:spPr>
              <a:xfrm>
                <a:off x="3852720" y="620640"/>
                <a:ext cx="987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Объект 12"/>
              <p:cNvSpPr txBox="1"/>
              <p:nvPr/>
            </p:nvSpPr>
            <p:spPr>
              <a:xfrm>
                <a:off x="900000" y="386064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Объект 14"/>
              <p:cNvSpPr txBox="1"/>
              <p:nvPr/>
            </p:nvSpPr>
            <p:spPr>
              <a:xfrm>
                <a:off x="3943440" y="3860640"/>
                <a:ext cx="3438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7705800" cy="1159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85280" y="1213920"/>
            <a:ext cx="7947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 (основная теорема алгебры)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е уравнение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 ровно        корней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действительных или комплексных, простых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атных) и может быть представлен в ви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я на линейные множители: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3421080" y="1917720"/>
          <a:ext cx="483696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1080" y="1917720"/>
                    <a:ext cx="48369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3"/>
          <p:cNvGraphicFramePr/>
          <p:nvPr/>
        </p:nvGraphicFramePr>
        <p:xfrm>
          <a:off x="2844720" y="306864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0686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4716360" y="2924280"/>
          <a:ext cx="1351080" cy="54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2924280"/>
                    <a:ext cx="1351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601560" y="5043600"/>
          <a:ext cx="7427880" cy="68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560" y="5043600"/>
                    <a:ext cx="7427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280" y="70920"/>
            <a:ext cx="8161560" cy="657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корни уравн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ворят, что корень             имее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ратность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если множител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ходит в разложение              раз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корней могут быть действительные разны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йствительные кратные и комплексны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 в о й с т в о  1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многочлен             имеет комплексный корень                  (где               )  кратности        , то этот многочлен имеет также сопряженный корень                 ,  кратность которого равна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72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1217520" y="0"/>
          <a:ext cx="259884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0"/>
                    <a:ext cx="25988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6789600" y="642960"/>
          <a:ext cx="41148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9600" y="642960"/>
                    <a:ext cx="411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3646440" y="1285920"/>
          <a:ext cx="174636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6440" y="1285920"/>
                    <a:ext cx="1746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8"/>
          <p:cNvGraphicFramePr/>
          <p:nvPr/>
        </p:nvGraphicFramePr>
        <p:xfrm>
          <a:off x="860400" y="1928880"/>
          <a:ext cx="11239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0400" y="1928880"/>
                    <a:ext cx="11239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0"/>
          <p:cNvGraphicFramePr/>
          <p:nvPr/>
        </p:nvGraphicFramePr>
        <p:xfrm>
          <a:off x="5646600" y="1928880"/>
          <a:ext cx="117504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6600" y="1928880"/>
                    <a:ext cx="1175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1"/>
          <p:cNvGraphicFramePr/>
          <p:nvPr/>
        </p:nvGraphicFramePr>
        <p:xfrm>
          <a:off x="6361200" y="3929040"/>
          <a:ext cx="84600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61200" y="3929040"/>
                    <a:ext cx="8460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4361040" y="4500720"/>
          <a:ext cx="9871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61040" y="450072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4"/>
          <p:cNvGraphicFramePr/>
          <p:nvPr/>
        </p:nvGraphicFramePr>
        <p:xfrm>
          <a:off x="6805440" y="4581360"/>
          <a:ext cx="978120" cy="47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5440" y="4581360"/>
                    <a:ext cx="9781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6"/>
          <p:cNvGraphicFramePr/>
          <p:nvPr/>
        </p:nvGraphicFramePr>
        <p:xfrm>
          <a:off x="2503440" y="5143680"/>
          <a:ext cx="457200" cy="50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03440" y="5143680"/>
                    <a:ext cx="45720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8"/>
          <p:cNvGraphicFramePr/>
          <p:nvPr/>
        </p:nvGraphicFramePr>
        <p:xfrm>
          <a:off x="4361040" y="5715000"/>
          <a:ext cx="9871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5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61040" y="571500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21"/>
          <p:cNvGraphicFramePr/>
          <p:nvPr/>
        </p:nvGraphicFramePr>
        <p:xfrm>
          <a:off x="3503520" y="6310440"/>
          <a:ext cx="457200" cy="503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7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3520" y="6310440"/>
                    <a:ext cx="457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85640" y="428760"/>
            <a:ext cx="8089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 в о й с т в о   2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Если оставить в перечне корней многочлена          только различные корни и учесть их кратность, то  этот многочлен можно представить в виде произве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а                                                  ,   в данн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и  являются действительными,  причем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9" name="Object 2"/>
          <p:cNvGraphicFramePr/>
          <p:nvPr/>
        </p:nvGraphicFramePr>
        <p:xfrm>
          <a:off x="3860640" y="114300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114300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289080" y="2876400"/>
          <a:ext cx="8162640" cy="11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2876400"/>
                    <a:ext cx="816264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574560" y="4214880"/>
          <a:ext cx="412272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560" y="4214880"/>
                    <a:ext cx="41227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8"/>
          <p:cNvGraphicFramePr/>
          <p:nvPr/>
        </p:nvGraphicFramePr>
        <p:xfrm>
          <a:off x="1789200" y="4844880"/>
          <a:ext cx="447192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4844880"/>
                    <a:ext cx="44719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9"/>
          <p:cNvGraphicFramePr/>
          <p:nvPr/>
        </p:nvGraphicFramePr>
        <p:xfrm>
          <a:off x="1336680" y="5961240"/>
          <a:ext cx="580860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6680" y="5961240"/>
                    <a:ext cx="5808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80960" y="231840"/>
            <a:ext cx="8759880" cy="53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85640" y="981000"/>
            <a:ext cx="8120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         от деления многочле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  функцию            равен          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оказательство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елим многочлен          на   линейную функцию          , получим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многочлен степени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от де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ляя в формулу                 , получи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юда  имеем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8"/>
              <p:cNvSpPr txBox="1"/>
              <p:nvPr/>
            </p:nvSpPr>
            <p:spPr>
              <a:xfrm>
                <a:off x="6732720" y="1989000"/>
                <a:ext cx="696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Объект 11"/>
              <p:cNvSpPr txBox="1"/>
              <p:nvPr/>
            </p:nvSpPr>
            <p:spPr>
              <a:xfrm>
                <a:off x="3927600" y="1484280"/>
                <a:ext cx="861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2"/>
              <p:cNvSpPr txBox="1"/>
              <p:nvPr/>
            </p:nvSpPr>
            <p:spPr>
              <a:xfrm>
                <a:off x="6072120" y="1519200"/>
                <a:ext cx="6606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Объект 15"/>
              <p:cNvSpPr txBox="1"/>
              <p:nvPr/>
            </p:nvSpPr>
            <p:spPr>
              <a:xfrm>
                <a:off x="757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16"/>
              <p:cNvSpPr txBox="1"/>
              <p:nvPr/>
            </p:nvSpPr>
            <p:spPr>
              <a:xfrm>
                <a:off x="3708360" y="2421000"/>
                <a:ext cx="862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17"/>
              <p:cNvSpPr txBox="1"/>
              <p:nvPr/>
            </p:nvSpPr>
            <p:spPr>
              <a:xfrm>
                <a:off x="1863720" y="2827440"/>
                <a:ext cx="453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18"/>
              <p:cNvSpPr txBox="1"/>
              <p:nvPr/>
            </p:nvSpPr>
            <p:spPr>
              <a:xfrm>
                <a:off x="1260360" y="3284640"/>
                <a:ext cx="1065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19"/>
              <p:cNvSpPr txBox="1"/>
              <p:nvPr/>
            </p:nvSpPr>
            <p:spPr>
              <a:xfrm>
                <a:off x="5653080" y="3357720"/>
                <a:ext cx="13431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21"/>
              <p:cNvSpPr txBox="1"/>
              <p:nvPr/>
            </p:nvSpPr>
            <p:spPr>
              <a:xfrm>
                <a:off x="3637080" y="1052640"/>
                <a:ext cx="65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22"/>
              <p:cNvSpPr txBox="1"/>
              <p:nvPr/>
            </p:nvSpPr>
            <p:spPr>
              <a:xfrm>
                <a:off x="4286160" y="4292640"/>
                <a:ext cx="43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23"/>
              <p:cNvSpPr txBox="1"/>
              <p:nvPr/>
            </p:nvSpPr>
            <p:spPr>
              <a:xfrm>
                <a:off x="4932360" y="4373640"/>
                <a:ext cx="709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Объект 24"/>
              <p:cNvSpPr txBox="1"/>
              <p:nvPr/>
            </p:nvSpPr>
            <p:spPr>
              <a:xfrm>
                <a:off x="2071800" y="4797360"/>
                <a:ext cx="423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Объект 25"/>
              <p:cNvSpPr txBox="1"/>
              <p:nvPr/>
            </p:nvSpPr>
            <p:spPr>
              <a:xfrm>
                <a:off x="3060720" y="5708520"/>
                <a:ext cx="230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759880" cy="646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804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о    является корнем многочлена       только и только тогда, когда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 остат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вободный член многочлена делится на любой целый корень многочлена с целыми коэффициентами равен 1, то все рациональные корни являются и цел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ть    целый корень приведенного многочле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целыми коэффициентами. Тогда дл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го целого    число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7" descr="P(x)"/>
          <p:cNvPicPr/>
          <p:nvPr/>
        </p:nvPicPr>
        <p:blipFill>
          <a:blip r:embed="rId2"/>
          <a:stretch/>
        </p:blipFill>
        <p:spPr>
          <a:xfrm>
            <a:off x="10131480" y="-196920"/>
            <a:ext cx="380880" cy="200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P(x)=0"/>
          <p:cNvPicPr/>
          <p:nvPr/>
        </p:nvPicPr>
        <p:blipFill>
          <a:blip r:embed="rId3"/>
          <a:stretch/>
        </p:blipFill>
        <p:spPr>
          <a:xfrm>
            <a:off x="14009760" y="-196920"/>
            <a:ext cx="733320" cy="2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0" name="Объект 6"/>
              <p:cNvSpPr txBox="1"/>
              <p:nvPr/>
            </p:nvSpPr>
            <p:spPr>
              <a:xfrm>
                <a:off x="1908000" y="1268280"/>
                <a:ext cx="2206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8"/>
              <p:cNvSpPr txBox="1"/>
              <p:nvPr/>
            </p:nvSpPr>
            <p:spPr>
              <a:xfrm>
                <a:off x="6732720" y="1197000"/>
                <a:ext cx="695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Объект 9"/>
              <p:cNvSpPr txBox="1"/>
              <p:nvPr/>
            </p:nvSpPr>
            <p:spPr>
              <a:xfrm>
                <a:off x="4429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Объект 10"/>
              <p:cNvSpPr txBox="1"/>
              <p:nvPr/>
            </p:nvSpPr>
            <p:spPr>
              <a:xfrm>
                <a:off x="7164360" y="155736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Объект 11"/>
              <p:cNvSpPr txBox="1"/>
              <p:nvPr/>
            </p:nvSpPr>
            <p:spPr>
              <a:xfrm>
                <a:off x="1692360" y="4302000"/>
                <a:ext cx="482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Объект 12"/>
              <p:cNvSpPr txBox="1"/>
              <p:nvPr/>
            </p:nvSpPr>
            <p:spPr>
              <a:xfrm>
                <a:off x="900000" y="465300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Объект 13"/>
              <p:cNvSpPr txBox="1"/>
              <p:nvPr/>
            </p:nvSpPr>
            <p:spPr>
              <a:xfrm>
                <a:off x="3205080" y="5084640"/>
                <a:ext cx="254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Объект 14"/>
              <p:cNvSpPr txBox="1"/>
              <p:nvPr/>
            </p:nvSpPr>
            <p:spPr>
              <a:xfrm>
                <a:off x="1405080" y="5589720"/>
                <a:ext cx="861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Объект 15"/>
              <p:cNvSpPr txBox="1"/>
              <p:nvPr/>
            </p:nvSpPr>
            <p:spPr>
              <a:xfrm>
                <a:off x="4460760" y="513252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875988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8000" y="1600200"/>
            <a:ext cx="8424720" cy="1541520"/>
          </a:xfrm>
          <a:prstGeom prst="rect">
            <a:avLst/>
          </a:prstGeom>
          <a:gradFill rotWithShape="0">
            <a:gsLst>
              <a:gs pos="0">
                <a:srgbClr val="f4e7ed"/>
              </a:gs>
              <a:gs pos="100000">
                <a:srgbClr val="f5e0e5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34000"/>
          </a:bodyPr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Пример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ить квадратный трехчлен  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множите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Реш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йдем корни многочлена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 2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азложить многочлен третьей 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1" name="Рисунок 5" descr="формула"/>
          <p:cNvPicPr/>
          <p:nvPr/>
        </p:nvPicPr>
        <p:blipFill>
          <a:blip r:embed="rId2"/>
          <a:stretch/>
        </p:blipFill>
        <p:spPr>
          <a:xfrm>
            <a:off x="5724360" y="2060640"/>
            <a:ext cx="1764000" cy="468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3"/>
          <a:stretch/>
        </p:blipFill>
        <p:spPr>
          <a:xfrm>
            <a:off x="181080" y="3716280"/>
            <a:ext cx="3046320" cy="504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9" descr="формула"/>
          <p:cNvPicPr/>
          <p:nvPr/>
        </p:nvPicPr>
        <p:blipFill>
          <a:blip r:embed="rId4"/>
          <a:stretch/>
        </p:blipFill>
        <p:spPr>
          <a:xfrm>
            <a:off x="3421080" y="3573360"/>
            <a:ext cx="1800360" cy="13320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0" descr="формула"/>
          <p:cNvPicPr/>
          <p:nvPr/>
        </p:nvPicPr>
        <p:blipFill>
          <a:blip r:embed="rId5"/>
          <a:stretch/>
        </p:blipFill>
        <p:spPr>
          <a:xfrm>
            <a:off x="5381640" y="3789360"/>
            <a:ext cx="2951280" cy="755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1" descr="формула"/>
          <p:cNvPicPr/>
          <p:nvPr/>
        </p:nvPicPr>
        <p:blipFill>
          <a:blip r:embed="rId6"/>
          <a:stretch/>
        </p:blipFill>
        <p:spPr>
          <a:xfrm>
            <a:off x="3708360" y="6021360"/>
            <a:ext cx="1763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51960" y="260280"/>
            <a:ext cx="79470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7" name="Рисунок 2" descr="формула"/>
          <p:cNvPicPr/>
          <p:nvPr/>
        </p:nvPicPr>
        <p:blipFill>
          <a:blip r:embed="rId1"/>
          <a:stretch/>
        </p:blipFill>
        <p:spPr>
          <a:xfrm>
            <a:off x="3205080" y="260280"/>
            <a:ext cx="3635280" cy="6476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формула"/>
          <p:cNvPicPr/>
          <p:nvPr/>
        </p:nvPicPr>
        <p:blipFill>
          <a:blip r:embed="rId2"/>
          <a:stretch/>
        </p:blipFill>
        <p:spPr>
          <a:xfrm>
            <a:off x="252360" y="944640"/>
            <a:ext cx="3888000" cy="2771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формула"/>
          <p:cNvPicPr/>
          <p:nvPr/>
        </p:nvPicPr>
        <p:blipFill>
          <a:blip r:embed="rId3"/>
          <a:stretch/>
        </p:blipFill>
        <p:spPr>
          <a:xfrm>
            <a:off x="4213080" y="3753000"/>
            <a:ext cx="4427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09-25T18:55:09Z</dcterms:modified>
  <cp:revision>282</cp:revision>
  <dc:subject/>
  <dc:title>НЕПРЕРЫВНАЯ СЛУЧАЙНАЯ ВЕЛИЧИНА.</dc:title>
</cp:coreProperties>
</file>